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736A0B83-D401-416B-AA4D-43CC5879C9A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229913C9-CE6A-45BF-BE1D-84478437BDC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EF400C41-C8C5-4D04-B7BB-F10C4303B2A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9A47-28AE-49FC-BB88-2F152E33C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4F2C-8EA3-4297-9875-BCEAA4B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D352-F60F-4EB3-B73F-54B09F0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59CC-1787-4F65-A346-686DFE5F93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5059-6885-42F9-B1B3-FD474A71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92B8-0E9A-4D72-83BE-EE0EC94A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D6CF-971A-4ADD-901F-0882435D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01DD-15F9-4049-85E8-7326919C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DD01-EA77-4053-93AF-9F54E3DB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2962-18B3-4743-A252-075222FC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CD3F-DEEB-4973-B1E6-1EC72A63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B632-DDEF-4C01-B91D-54F53F51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CAC01E-A11F-443C-B58F-89C775CFD18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«ГБУЗ Кузнецкая межрайонная больница» поликлиника №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ВАРТАЛ 2019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9736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404640"/>
                <a:gridCol w="365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1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1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регистратуры поликлиники с учетом принятых решений о расширении зон ожидания пациентов (ул. Правды,1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ие перечня проблем, требующих реш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ор кабинета для реализации проекта по внедрению системы 5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ие рабочей группы  поликлиники 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регламентирующей документации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фотофиксацию до начала проекта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ить лист предложений и лист проблем для сотруднико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елать заявку на недостающее оборудова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285400" cy="48542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-19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28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основе выявленных проблем составить детальный план мероприятий согласно системе 5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работы по внедрению 5С на рабочем месте врача терапевта и врача общей практики в кабинете №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ить эффективность улучшенных процессов. При необходимости внести корректировку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ить отчет о проделанной работ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9-02-04T11:58:58Z</cp:lastPrinted>
  <dcterms:modified xsi:type="dcterms:W3CDTF">2019-02-04T11:38:15Z</dcterms:modified>
  <cp:revision>342</cp:revision>
  <dc:subject/>
  <dc:title>Слайд 1</dc:title>
</cp:coreProperties>
</file>